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17A-5613-4FCA-9F32-090C3942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97D-7FED-4146-90D7-17A4180A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8A1-6680-4C50-9098-72FC3A13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AA9-10FD-47D6-8E51-2DA88E9D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DF3-9510-4A03-A5DA-8B5DBC6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08F-1692-43D4-AC6A-78DC6415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F00-BF86-4B66-AA5B-32A643EA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F06-35A8-459D-A4C5-5ACD4211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D98-F405-45D7-860E-E1EA0A78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6CB-A1AC-4EF4-9F50-8EE9B2C0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A63-6DCB-4203-A92A-2483703E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1DE-49F0-4555-B0FF-A2F5DC6A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CE487-8CBB-44D9-893F-0E986D0C423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ggetto 8"/>
          <p:cNvGraphicFramePr/>
          <p:nvPr/>
        </p:nvGraphicFramePr>
        <p:xfrm>
          <a:off x="228600" y="152280"/>
          <a:ext cx="6400800" cy="883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ggetto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6400800" cy="883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Doppia parentesi quadra 9"/>
          <p:cNvSpPr/>
          <p:nvPr/>
        </p:nvSpPr>
        <p:spPr>
          <a:xfrm>
            <a:off x="3652920" y="1665360"/>
            <a:ext cx="685800" cy="82368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oppia parentesi quadra 10"/>
          <p:cNvSpPr/>
          <p:nvPr/>
        </p:nvSpPr>
        <p:spPr>
          <a:xfrm>
            <a:off x="4707000" y="1665360"/>
            <a:ext cx="685800" cy="82368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748680" y="148284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ST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4797720" y="148284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ST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ttangolo 13"/>
          <p:cNvSpPr/>
          <p:nvPr/>
        </p:nvSpPr>
        <p:spPr>
          <a:xfrm>
            <a:off x="3286080" y="8037360"/>
            <a:ext cx="2189160" cy="2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ttangolo 14"/>
          <p:cNvSpPr/>
          <p:nvPr/>
        </p:nvSpPr>
        <p:spPr>
          <a:xfrm>
            <a:off x="3278160" y="8456760"/>
            <a:ext cx="2190600" cy="2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ttangolo 15"/>
          <p:cNvSpPr/>
          <p:nvPr/>
        </p:nvSpPr>
        <p:spPr>
          <a:xfrm>
            <a:off x="3189240" y="8292960"/>
            <a:ext cx="2095560" cy="16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4084920" y="77580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7"/>
          <p:cNvSpPr/>
          <p:nvPr/>
        </p:nvSpPr>
        <p:spPr>
          <a:xfrm>
            <a:off x="-44280" y="57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ggetto 1"/>
          <p:cNvGraphicFramePr/>
          <p:nvPr/>
        </p:nvGraphicFramePr>
        <p:xfrm>
          <a:off x="162000" y="934920"/>
          <a:ext cx="669600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ggetto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934920"/>
                    <a:ext cx="6696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18"/>
          <p:cNvSpPr/>
          <p:nvPr/>
        </p:nvSpPr>
        <p:spPr>
          <a:xfrm>
            <a:off x="2985480" y="9079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oppia parentesi quadra 11"/>
          <p:cNvSpPr/>
          <p:nvPr/>
        </p:nvSpPr>
        <p:spPr>
          <a:xfrm>
            <a:off x="2496960" y="1252440"/>
            <a:ext cx="756000" cy="82404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556360" y="2125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STAT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oppia parentesi quadra 14"/>
          <p:cNvSpPr/>
          <p:nvPr/>
        </p:nvSpPr>
        <p:spPr>
          <a:xfrm>
            <a:off x="5423040" y="2798640"/>
            <a:ext cx="539640" cy="74160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4341240" y="247032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406840" y="365436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PEBP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nettore 1 17"/>
          <p:cNvSpPr/>
          <p:nvPr/>
        </p:nvSpPr>
        <p:spPr>
          <a:xfrm flipV="1">
            <a:off x="2027160" y="1190160"/>
            <a:ext cx="23241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nettore 1 19"/>
          <p:cNvSpPr/>
          <p:nvPr/>
        </p:nvSpPr>
        <p:spPr>
          <a:xfrm>
            <a:off x="3263760" y="2749680"/>
            <a:ext cx="266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onnettore 1 21"/>
          <p:cNvSpPr/>
          <p:nvPr/>
        </p:nvSpPr>
        <p:spPr>
          <a:xfrm>
            <a:off x="2684520" y="4299120"/>
            <a:ext cx="84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2877480" y="40212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asellaDiTesto 25"/>
          <p:cNvSpPr/>
          <p:nvPr/>
        </p:nvSpPr>
        <p:spPr>
          <a:xfrm>
            <a:off x="-44280" y="2714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07T10:39:35Z</dcterms:created>
  <dc:creator>Rachele Antonacci</dc:creator>
  <dc:description/>
  <dc:language>en-US</dc:language>
  <cp:lastModifiedBy>ra.antonacci@gmail.com</cp:lastModifiedBy>
  <dcterms:modified xsi:type="dcterms:W3CDTF">2021-07-05T15:06:57Z</dcterms:modified>
  <cp:revision>29</cp:revision>
  <dc:subject/>
  <dc:title>Presentazione di PowerPoint</dc:title>
</cp:coreProperties>
</file>